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1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1E99-892A-4DDC-A181-F9D08C443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51AD-A04D-45FC-99E2-B5C586712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8FF2-8B5A-44A9-ADB1-555CA0D1B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C1D8-AE29-4C5C-A195-F0EFE977E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7490-C04E-47C7-A3F6-A0DB2A35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0795-60FF-43D8-9C91-87DE4A07D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DE5F-1F00-4AEA-82FE-A139E1F86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88F9-7DF3-487E-8C48-2A8A51029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0711-71C1-454A-94FC-5CF4ADFEF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C5AD-A9E2-4F0A-A0B5-E0201A5C7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2562-0920-419D-989D-AA7E22844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37DC-735F-4F30-BC02-4E5452734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78E2-8875-4079-A8B7-8DA08B7B8B26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65360"/>
            <a:ext cx="6813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Developing 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85" name=""/>
          <p:cNvSpPr/>
          <p:nvPr/>
        </p:nvSpPr>
        <p:spPr>
          <a:xfrm>
            <a:off x="1655640" y="486828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and Ms. Tarfa Al-Na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esearch Skills Development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3971" t="2891" r="10888" b="15821"/>
          <a:stretch/>
        </p:blipFill>
        <p:spPr>
          <a:xfrm>
            <a:off x="1332000" y="1308240"/>
            <a:ext cx="6408720" cy="521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53640" y="835200"/>
            <a:ext cx="40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uild a Research Foc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700360" y="765000"/>
          <a:ext cx="3538440" cy="564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765000"/>
                    <a:ext cx="3538440" cy="564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700360" y="6381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Tip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5975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Students cannot ask many questions about a topic they don’t know much about. It is good to make them do a little search about the topic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for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 coming up with a research ques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7953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Do your students know how to use Googl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4920" y="1951200"/>
            <a:ext cx="6194160" cy="464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79640" y="1476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googl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can I learn more about Googl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1476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google.com/educato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12668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as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696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12668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as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60360" y="1628640"/>
            <a:ext cx="6840720" cy="5131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64000" y="2997360"/>
            <a:ext cx="2087640" cy="24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123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clust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123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clust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71640" y="2492280"/>
            <a:ext cx="201600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Let’s Practice:  A Role-playing Activity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6600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56600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90920" y="250272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e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1557360"/>
            <a:ext cx="1079280" cy="360360"/>
          </a:xfrm>
          <a:prstGeom prst="leftRightArrow">
            <a:avLst>
              <a:gd name="adj1" fmla="val 50000"/>
              <a:gd name="adj2" fmla="val 5962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197520"/>
            <a:ext cx="7488360" cy="332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 gives a “big ide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tries to guide the student to a research question by asking questions and dialoguing with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s watch and listen without saying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the teacher feels he/she has narrowed the topic, stop the a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s give feedback about what they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eat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447720"/>
            <a:ext cx="259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Enquiry Cycle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1916280"/>
            <a:ext cx="3168720" cy="100800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27664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99736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348000" y="472536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699640" y="28519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166860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Getting Ideas and Motivating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5437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Collecting and Analy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305136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Defin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p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0751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Report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Get the Right Question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0560" y="1844640"/>
            <a:ext cx="5113440" cy="4408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84360" y="14115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bing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0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hose a t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rite questions about what you want to know about this t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tinue developing questions about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536840"/>
            <a:ext cx="38098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Concept Mapp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40976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diagrams showing how concept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2589120"/>
            <a:ext cx="669924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1054080"/>
            <a:ext cx="7848360" cy="568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19280" y="6436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ww.inspiratio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19280" y="6436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ww.mind42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8560" y="1052640"/>
            <a:ext cx="756108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309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1463040"/>
            <a:ext cx="352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a topic or issu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1136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280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lter fo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534680"/>
            <a:ext cx="4824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rk in pairs o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ee on the top five most   important words in a topic, theme, webpag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take turns writing their key words on the board but can only add words that are not alread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5640" y="4429080"/>
            <a:ext cx="2808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Research Question Should Be :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atter to me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learly w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 question that can be answ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lear how it could be investi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14628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handout: “Six Good Questions to Ask About Your Research Ques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da9a9"/>
                </a:solidFill>
                <a:latin typeface="Century Schoolbook"/>
              </a:rPr>
              <a:t>Research Hypothesises</a:t>
            </a:r>
            <a:r>
              <a:rPr b="0" i="1" lang="en-GB" sz="44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0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84120"/>
            <a:ext cx="75610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research hypothes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is a tentative prediction or explanation of the answer to the resear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now have a research question.  What do you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ink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ill be the answer to this ques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 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could be right or wrong.  You are doing research to find the truth, not to prove your predi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How to Answer a Research Question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882800"/>
            <a:ext cx="6912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at do I need to kn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ere can I find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Times New Roman"/>
              </a:rPr>
              <a:t>Think about what you need to do to answer the research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Thank you for listening!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If you have questions about research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 need additional information,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feel free to contact us.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at Do Your Students Want to Research Exactly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 of this session is to give you strategies for guiding students in choosing what exactly they want to research through asking a number of probing, sharply focused ques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Moving from the “Big Idea” to a Research Question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2735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search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924280"/>
            <a:ext cx="331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Research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94028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Research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52388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bject or topic of th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9584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ls what you want to find out. States the purpose of the research in a question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9388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tentative prediction or answer to the resear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220500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3333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573360"/>
            <a:ext cx="358920" cy="1150920"/>
          </a:xfrm>
          <a:prstGeom prst="downArrow">
            <a:avLst>
              <a:gd name="adj1" fmla="val 50000"/>
              <a:gd name="adj2" fmla="val 80165"/>
            </a:avLst>
          </a:prstGeom>
          <a:solidFill>
            <a:srgbClr val="3333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an you tell the differenc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4110120"/>
            <a:ext cx="2260440" cy="191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826920" y="2852640"/>
            <a:ext cx="2160720" cy="1368360"/>
          </a:xfrm>
          <a:prstGeom prst="wedgeEllipseCallout">
            <a:avLst>
              <a:gd name="adj1" fmla="val -44194"/>
              <a:gd name="adj2" fmla="val 69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205000"/>
            <a:ext cx="2519280" cy="1584360"/>
          </a:xfrm>
          <a:prstGeom prst="cloudCallout">
            <a:avLst>
              <a:gd name="adj1" fmla="val -20069"/>
              <a:gd name="adj2" fmla="val 83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716280"/>
            <a:ext cx="2448000" cy="1150920"/>
          </a:xfrm>
          <a:prstGeom prst="wedgeRoundRectCallout">
            <a:avLst>
              <a:gd name="adj1" fmla="val -43773"/>
              <a:gd name="adj2" fmla="val 76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365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mm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62604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ity Sheet #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How to Do That 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843920"/>
            <a:ext cx="48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n area or topic in which you have an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5240" y="3140640"/>
            <a:ext cx="541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lvl="1" marL="457200"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deas or issues which you wish to explore in 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5760" y="3067920"/>
            <a:ext cx="42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roblems detected and needing a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48480" y="378864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questions arising from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1205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T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95640" y="2205000"/>
            <a:ext cx="1079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2560" y="2205000"/>
            <a:ext cx="9381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2133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442908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40766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19640" y="3500280"/>
            <a:ext cx="1224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573360"/>
            <a:ext cx="10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588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e focused  answerabl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00360" y="917640"/>
            <a:ext cx="106848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54600" y="1700280"/>
            <a:ext cx="1878120" cy="485640"/>
          </a:xfrm>
          <a:prstGeom prst="wedgeRoundRectCallout">
            <a:avLst>
              <a:gd name="adj1" fmla="val -49490"/>
              <a:gd name="adj2" fmla="val 84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y research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6320" y="520560"/>
            <a:ext cx="151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y big 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2781360"/>
            <a:ext cx="133020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3699000"/>
            <a:ext cx="118404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ypes of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33760" y="3699000"/>
            <a:ext cx="121788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uses of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84920" y="3699000"/>
            <a:ext cx="16398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ions for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869000"/>
            <a:ext cx="16146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pollution in Qa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0480" y="5950080"/>
            <a:ext cx="34196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major sources of air pollution in Doha and what can be don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3640" y="285192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8141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g Id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37152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k questions to narrow the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94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er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0134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arch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da9a9"/>
                </a:solidFill>
                <a:latin typeface="Century Schoolbook"/>
              </a:rPr>
              <a:t>Why is a research question important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6913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research question is important because it helps you determine what type of information or data you need to collect.  It points you in the right dir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research question can also guide you in deciding what research methods to use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collect your da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Build A Research Focus:</a:t>
            </a:r>
            <a:br>
              <a:rPr sz="3200"/>
            </a:b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Questions to Ask Student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47320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 really curious abou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explore this topic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know alrea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need to find ou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find out the information you ne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make sense of the data you dis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share your finds with oth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4:46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2460821</vt:r8>
  </property>
  <property fmtid="{D5CDD505-2E9C-101B-9397-08002B2CF9AE}" pid="3" name="_AuthorEmail">
    <vt:lpwstr>rsami@sec.gov.qa</vt:lpwstr>
  </property>
  <property fmtid="{D5CDD505-2E9C-101B-9397-08002B2CF9AE}" pid="4" name="_AuthorEmailDisplayName">
    <vt:lpwstr>Rawya Sami</vt:lpwstr>
  </property>
  <property fmtid="{D5CDD505-2E9C-101B-9397-08002B2CF9AE}" pid="5" name="_EmailSubject">
    <vt:lpwstr>Plz repalce the already existing file </vt:lpwstr>
  </property>
  <property fmtid="{D5CDD505-2E9C-101B-9397-08002B2CF9AE}" pid="6" name="_PreviousAdHocReviewCycleID">
    <vt:r8>1902460821</vt:r8>
  </property>
  <property fmtid="{D5CDD505-2E9C-101B-9397-08002B2CF9AE}" pid="7" name="_ReviewingToolsShownOnce">
    <vt:lpwstr/>
  </property>
</Properties>
</file>